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1741-8526-40E1-9A06-6531A9BA8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F03E-4467-4A31-8243-3FDE5A3F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4D98-F743-4A4B-8A69-2F9089D7A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922D-E141-418C-9021-87761645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29BE-F612-418F-AA2B-13D785D3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1145-0338-4FEC-AE5A-FC511143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D675-60D0-42D6-A479-75FEDA0D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95D0-65EE-4F20-ACBB-8B63667B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C1A2-276C-4D1F-AFDA-EEFFA2B3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49C9-822D-488E-8373-C19E2268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6B08-4D85-4A39-AF0E-215E2A6A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510B-C286-4193-A4BB-6A55D224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7042-70C7-4494-A73E-7CF3BEBCF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0920" y="260280"/>
            <a:ext cx="8570880" cy="6289920"/>
            <a:chOff x="250920" y="260280"/>
            <a:chExt cx="8570880" cy="62899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250920" y="260280"/>
              <a:ext cx="1982520" cy="18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 txBox="1"/>
            <p:nvPr/>
          </p:nvSpPr>
          <p:spPr>
            <a:xfrm>
              <a:off x="826920" y="1341360"/>
              <a:ext cx="7632720" cy="410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1365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SATURDAY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NIGHT 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MURDER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7020000" y="5157720"/>
              <a:ext cx="1801800" cy="1392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6T19:54:36Z</dcterms:created>
  <dc:creator>bourgau</dc:creator>
  <dc:description/>
  <dc:language>en-US</dc:language>
  <cp:lastModifiedBy>bourgau</cp:lastModifiedBy>
  <dcterms:modified xsi:type="dcterms:W3CDTF">2013-05-06T20:02:23Z</dcterms:modified>
  <cp:revision>2</cp:revision>
  <dc:subject/>
  <dc:title>Diapositive 1</dc:title>
</cp:coreProperties>
</file>